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33C-7C71-41BE-9FF1-92BBAB21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44D-B473-45BE-A2D1-A4760A0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336-0FB1-43F6-96D4-0916F283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544-F359-45DD-9B6B-2A3A3714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C5EB-076F-4134-846B-21219883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EED9-7473-4617-B900-8398A8BE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4C8-548E-48D3-9915-78E9C64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9EC3-9AB1-4F87-9EF9-7BB2CB3C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B8F-E06B-4211-8EE7-D7EAFEDD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DD50-E738-4CFB-9BDF-8F11B377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D4C5-CA7C-45CF-A876-50EA1655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CC6-57FE-4061-9DD8-57826B5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B171-0A70-4639-9157-F83787E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EA12-7F31-4239-A6D8-89F9CB0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A42-E540-45A2-8530-227754A8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4528-4DDF-4B7A-8596-638571F8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EA33-A276-4114-B763-DCD0E922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7BC-9CC9-4089-9CE7-D28FEB49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CF2-E0C5-4E90-90AF-05699C8B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DE7-1A14-47F7-AC84-C65F736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0A4-74D0-4B69-BCDF-6985A56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6BF-731D-48C4-99D8-147B80B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036-5226-4F09-9473-7D2B06D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3BC-8CD4-415F-AC4D-317A540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F7C-F261-492C-8282-6ABBDAD05AD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652-CF42-458F-9723-CCA15DA9850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Times New Roman"/>
              </a:rPr>
              <a:t>Biomes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Desert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 sandy or rocky biome, with little precipitation and little plant lif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50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Animals of the Desert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dents, snakes, lizards, tortoises, insects, and some birds.  The Sahara Desert in Africa is home to camels, gazelles, antelopes, small foxes, snakes, lizards, and gerbi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26692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90920" y="4114800"/>
            <a:ext cx="2489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Tundra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 cold biome of the far north; the ground is frozen even in summ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971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Animals of the Tundra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usk oxen, migrating caribou, arctic foxes, weasels, snowshoe hares, owls, hawks, various rodents, occasional polar bear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4290840"/>
            <a:ext cx="4038840" cy="256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4177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Grasslan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A biome where grasses, not trees, are the main plant life.  Prairies are one kind of grassland region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15000" y="4405320"/>
            <a:ext cx="2994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Grassland animal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merican Grasslands:  Prairie dogs, foxes, small mammals, snakes, insects, various bird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4167360"/>
            <a:ext cx="3859200" cy="1901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25146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Grassland animal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frican Grasslands:  Elephants, lions, zebras, giraff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657600" cy="2082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2313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A biome is one of Earth’s large ecosystems, with its own kind of climate, soil, plants, and animals.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Six major biomes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aig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eciduous fores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ropical rain fores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eser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Grassland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45003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Taiga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A cool forest biome of conifers in the upper Northern Hemispher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1820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Animals of the Taiga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Rodents, snowshoe hares, lynx, sables, ermine, caribou, bears, wolves, birds in summ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4383000"/>
            <a:ext cx="3276720" cy="18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224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Deciduous Forest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A forest biome with many kinds of trees that lose their leaves each autum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47242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67080" y="44197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86400" y="480060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086600" y="4191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62120" y="487692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733920" y="517212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477120" y="5172120"/>
            <a:ext cx="1493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imals of the Deciduous Fore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olves, deer, bears, and a wide variety of small mammals, birds, amphibians, reptiles, and insec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895480" cy="160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1160" y="3962520"/>
            <a:ext cx="1927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Tropical Rain Forest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 hot, humid biome near the equator, with much rainfall and a wide variety of lif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2362320" cy="221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5257800" y="4800600"/>
            <a:ext cx="1600200" cy="990720"/>
          </a:xfrm>
          <a:prstGeom prst="line">
            <a:avLst/>
          </a:prstGeom>
          <a:ln w="38160">
            <a:solidFill>
              <a:srgbClr val="090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486400"/>
            <a:ext cx="18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equato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038480" y="5790960"/>
            <a:ext cx="1067040" cy="152280"/>
          </a:xfrm>
          <a:prstGeom prst="line">
            <a:avLst/>
          </a:prstGeom>
          <a:ln w="28440">
            <a:solidFill>
              <a:srgbClr val="0908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Animals of the Tropical Rain Forest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ore species of insects, reptiles, and amphibians than any place else; monkeys, other small and large mammals, including in some places elephants, all sorts of colorful bird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144792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05560" y="4495680"/>
            <a:ext cx="22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2805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9:06:18Z</dcterms:created>
  <dc:creator>skelley</dc:creator>
  <dc:description/>
  <dc:language>en-US</dc:language>
  <cp:lastModifiedBy>WinuE</cp:lastModifiedBy>
  <dcterms:modified xsi:type="dcterms:W3CDTF">2009-11-02T19:59:36Z</dcterms:modified>
  <cp:revision>2</cp:revision>
  <dc:subject/>
  <dc:title>Biomes</dc:title>
</cp:coreProperties>
</file>